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6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17.jpeg" ContentType="image/jpeg"/>
  <Override PartName="/ppt/media/image3.png" ContentType="image/png"/>
  <Override PartName="/ppt/media/image33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29.jpeg" ContentType="image/jpeg"/>
  <Override PartName="/ppt/media/image10.jpeg" ContentType="image/jpeg"/>
  <Override PartName="/ppt/media/image5.png" ContentType="image/png"/>
  <Override PartName="/ppt/media/image43.jpeg" ContentType="image/jpeg"/>
  <Override PartName="/ppt/media/image13.jpeg" ContentType="image/jpeg"/>
  <Override PartName="/ppt/media/image40.jpeg" ContentType="image/jpeg"/>
  <Override PartName="/ppt/media/image38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36.jpeg" ContentType="image/jpeg"/>
  <Override PartName="/ppt/media/image37.jpeg" ContentType="image/jpeg"/>
  <Override PartName="/ppt/media/image34.png" ContentType="image/png"/>
  <Override PartName="/ppt/media/image12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9.png" ContentType="image/png"/>
  <Override PartName="/ppt/media/image22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11.png" ContentType="image/png"/>
  <Override PartName="/ppt/media/image19.jpeg" ContentType="image/jpeg"/>
  <Override PartName="/ppt/media/image42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EBF88-A3A2-46F5-83D4-2252480C8B4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76092"/>
                </a:solidFill>
                <a:latin typeface="Calibri"/>
              </a:rPr>
              <a:t>Влияние музыки на организм челове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Автор: Татьяна Иванова, 11 клас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Парабельской СОШ имени Н.А. Образц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Руководитель: Владислав Николаевич Галимо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учитель б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B4988-35B9-45B2-8F07-7F7890BA53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узыкотерап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Духовная, религиозная музыка восстанавливает душевное равновесие, дарит чувство покоя. Если сравнивать музыку с лекарствами, то религиозная музыка – анальгетик в мире звуков, то есть она облегчает бол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4A1F0-4ADF-4F2A-A773-95F8E05109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узыка Моцар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Вольфганг Амадей Моцарт родился 27 января 1756 года в австрийском городе Зальцбург. Музыкальный гений Моцарта проявился уже в раннем детстве. Он написал свою первую симфонию, когда ему еще не было 10 лет, а первую успешную оперу - к 12 год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914DA-3CCB-4E73-9596-8ABFC88164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Эффект Моцар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Произведения Моцарта универсальны: они рекомендуются для снятия стресса, эффективного усвоения учебного материала, от головной боли, а также во время восстановительного периода, например, после экстремальных ситуаций. Причем лечебным эффектом обладают все произведения Моцарта. Это явление получило название: эффект Моцар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910CA-88A2-4728-A61C-57C8851125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лияние музыки на развитие пл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Дети матерей, которые на двадцать восьмой - тридцать шестой неделях беременности слушали музыку, быстрее других начинают реагировать на звуки, узнавать мелодии. У них лучше развита памя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Также доказано, что малыши узнают, активнее реагируют и предпочитают ту музыку, которую они "слышали" до рождения, будучи в утробе матер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4061"/>
                </a:solidFill>
                <a:latin typeface="Calibri"/>
              </a:rPr>
              <a:t>Исследования врачей доказали, что уже на пятом месяце беременности ребенок слышит и различает звуки. Он может реагировать на громкость и ритм мелодии. Она может ему нравиться или н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F3461-F2C9-4761-9213-5845C4DE4A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трицательное значение музы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В нашем сложном земном мире любое явление можно направить и в положительную и в отрицательную стороны. Музыка - не исключение. Может быть, она служит началом многих духовных язв, но вопрос о гармонии необычно сложен. В последние десятилетия ХХ века появилось множество музыкальных направлений и большинство из них, отмечают исследователи, действуют разрушительно на живые организ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ED8FF-9464-498F-B111-DADC627F64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есные фа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4061"/>
                </a:solidFill>
                <a:latin typeface="Calibri"/>
              </a:rPr>
              <a:t>На фотографии показан опыт где воде дают слушать музыку, снизу фотография - кристаллы, замороженные после прослушивания 'Пасторали' Бетховена, одной из его самых известных симфоний. Это яркая, радостная музыкальная история. И этот красивый кристалл доказывает тот факт, что хорошая музыка позитивно влияет на вод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3A126-C9CF-40A1-A1E3-F6A86CA0B2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есные экспери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254061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Фотография справа - кристаллы, замороженные после прослушивания 'Прощальной Песни' Шопена. </a:t>
            </a:r>
            <a:br>
              <a:rPr sz="1200"/>
            </a:b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Он приобрел такую форму, потому что на него повлияла 'Прощальная Песня'? Основная форма кристалла почти идеально разделена на маленькие частицы, которые 'отделились' друг от друга. И это, несмотря на тот факт, что увеличительная сила микроскопа оставалась такой же, как и на других фотограф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101A5-755B-42A3-9F77-E5F2DD716B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есные экспери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254061"/>
                </a:solidFill>
                <a:latin typeface="Calibri"/>
              </a:rPr>
              <a:t>Интересный эксперимент проводился с человеком, который каждый день говорил две фразы: '</a:t>
            </a:r>
            <a:r>
              <a:rPr b="1" i="1" lang="ru-RU" sz="1200" spc="-1" strike="noStrike">
                <a:solidFill>
                  <a:srgbClr val="254061"/>
                </a:solidFill>
                <a:latin typeface="Calibri"/>
              </a:rPr>
              <a:t>Спасибо</a:t>
            </a:r>
            <a:r>
              <a:rPr b="1" lang="ru-RU" sz="1200" spc="-1" strike="noStrike">
                <a:solidFill>
                  <a:srgbClr val="254061"/>
                </a:solidFill>
                <a:latin typeface="Calibri"/>
              </a:rPr>
              <a:t>' и '</a:t>
            </a:r>
            <a:r>
              <a:rPr b="1" i="1" lang="ru-RU" sz="1200" spc="-1" strike="noStrike">
                <a:solidFill>
                  <a:srgbClr val="254061"/>
                </a:solidFill>
                <a:latin typeface="Calibri"/>
              </a:rPr>
              <a:t>Ты - дурак</a:t>
            </a:r>
            <a:r>
              <a:rPr b="1" lang="ru-RU" sz="1200" spc="-1" strike="noStrike">
                <a:solidFill>
                  <a:srgbClr val="254061"/>
                </a:solidFill>
                <a:latin typeface="Calibri"/>
              </a:rPr>
              <a:t>' некоторому количеству риса. В этом эксперименте в два одинаковых контейнера поместили вареный ри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74B19-EAF5-48EE-B648-05EF1991A7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54061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Два ученика начальной школы говорили рису слова каждый день, на протяжении месяца, как только они возвращались домой после школы. В результате, рис, которому дети говорили '</a:t>
            </a:r>
            <a:r>
              <a:rPr b="0" i="1" lang="ru-RU" sz="1200" spc="-1" strike="noStrike">
                <a:solidFill>
                  <a:srgbClr val="254061"/>
                </a:solidFill>
                <a:latin typeface="Calibri"/>
              </a:rPr>
              <a:t>спасибо</a:t>
            </a: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', хорошо бродил, и имел приятный аромат бродившего риса. Другой контейнер с рисом, которому дети говорили '</a:t>
            </a:r>
            <a:r>
              <a:rPr b="0" i="1" lang="ru-RU" sz="1200" spc="-1" strike="noStrike">
                <a:solidFill>
                  <a:srgbClr val="254061"/>
                </a:solidFill>
                <a:latin typeface="Calibri"/>
              </a:rPr>
              <a:t>ты - дурак</a:t>
            </a: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', стал черным и сгнил. Они сказали, что его запах был крайне отвратительн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Здесь не только вода, но также и микробы вовлечены в результат. Микробы так же как и мы, они работают хорошо, если их хвалят, и становятся бездеятельными, если их оскорбляют. Кажется, что слышал '</a:t>
            </a:r>
            <a:r>
              <a:rPr b="0" i="1" lang="ru-RU" sz="1200" spc="-1" strike="noStrike">
                <a:solidFill>
                  <a:srgbClr val="254061"/>
                </a:solidFill>
                <a:latin typeface="Calibri"/>
              </a:rPr>
              <a:t>спасибо</a:t>
            </a: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' и '</a:t>
            </a:r>
            <a:r>
              <a:rPr b="0" i="1" lang="ru-RU" sz="1200" spc="-1" strike="noStrike">
                <a:solidFill>
                  <a:srgbClr val="254061"/>
                </a:solidFill>
                <a:latin typeface="Calibri"/>
              </a:rPr>
              <a:t>ты - дурак</a:t>
            </a: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', микробы, должно быть, сгруппировались в полезные и вредные бакте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3F4EC-7F94-4706-A7DF-23D9279C09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есные экспери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2060"/>
                </a:solidFill>
                <a:latin typeface="Calibri"/>
              </a:rPr>
              <a:t>В следующем эксперименте приняла участие вода. Слова, сказанные воде, были следующими: </a:t>
            </a:r>
            <a:r>
              <a:rPr b="0" i="1" lang="ru-RU" sz="1600" spc="-1" strike="noStrike">
                <a:solidFill>
                  <a:srgbClr val="002060"/>
                </a:solidFill>
                <a:latin typeface="Calibri"/>
              </a:rPr>
              <a:t>'Ты надоела мне. Я убью тебя‘</a:t>
            </a:r>
            <a:r>
              <a:rPr b="0" lang="ru-RU" sz="16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В отчете говорится: </a:t>
            </a:r>
            <a:br>
              <a:rPr sz="1200"/>
            </a:b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"Это слова, которые молодые люди часто используют в повседневной жизни. Постепенно форма воды стала настолько уродливой, как мы и ожидали. Кристаллы были искаженными и рассеянными. Это действительно было видимым образом слов: '</a:t>
            </a:r>
            <a:r>
              <a:rPr b="0" i="1" lang="ru-RU" sz="1200" spc="-1" strike="noStrike">
                <a:solidFill>
                  <a:srgbClr val="002060"/>
                </a:solidFill>
                <a:latin typeface="Calibri"/>
              </a:rPr>
              <a:t>Ты надоела мне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' и '</a:t>
            </a:r>
            <a:r>
              <a:rPr b="0" i="1" lang="ru-RU" sz="1200" spc="-1" strike="noStrike">
                <a:solidFill>
                  <a:srgbClr val="002060"/>
                </a:solidFill>
                <a:latin typeface="Calibri"/>
              </a:rPr>
              <a:t>Я убью тебя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'. То, что мы живем в мире, в котором подобные слова часто используются, действительно пугает. Мы должны сделать что-то с самими собой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2FF46-F52A-4495-954F-0998822E65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Актуальность тем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Современные звуки музыки уже не те, что были раньше. И в большей степени их прослушивание  отрицательно сказывается на нашем поведении, восприятии мира и самом главном – здоровье нашего орган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Но, конечно же, существует и такая музыка, которая благотворно воздействует на организ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И поэтому я решила подробнее узнать об этих негативных сторонах и раскрыть эту, столь важную тем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8EF33-FBB7-45E9-913B-5462B1CDF6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есные экспери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Дистиллированная вода, получающая электромагнитные волны '</a:t>
            </a:r>
            <a:r>
              <a:rPr b="0" i="1" lang="ru-RU" sz="1800" spc="-1" strike="noStrike">
                <a:solidFill>
                  <a:srgbClr val="002060"/>
                </a:solidFill>
                <a:latin typeface="Calibri"/>
              </a:rPr>
              <a:t>Любовь, Благодарность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'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Автор говорит в своем отчете: </a:t>
            </a:r>
            <a:br>
              <a:rPr sz="1200"/>
            </a:b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"Мы делали этот эксперимент, основываясь на идее, что даже когда стоит один и тот же телевизор, различные программы изменяют результат. Делая так, даже дистиллированная вода без этикетки  '</a:t>
            </a:r>
            <a:r>
              <a:rPr b="0" i="1" lang="ru-RU" sz="1200" spc="-1" strike="noStrike">
                <a:solidFill>
                  <a:srgbClr val="002060"/>
                </a:solidFill>
                <a:latin typeface="Calibri"/>
              </a:rPr>
              <a:t>Любовь, Благодарность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' на ней, показала нам красивый кристалл. После просмотра всех этих фотографий, для нас не трудно сделать следующий вывод: вне зависимости от того, было ли показано письмо, музыка или телевизионная программа, вода показывает невероятную способность улавливать определенные послания, спрятанные за поверхностными формами или даже отличать их моральный уровень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11212-8625-45FA-9144-6AA9A60902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ывод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254061"/>
                </a:solidFill>
                <a:latin typeface="Calibri"/>
              </a:rPr>
              <a:t>В итоге своего мини-исследования  я получила очень много полезной и новой  для меня информации, которой хотелось бы поделиться со всеми людьми и развеять многие мнения о том, что музыка может быть только губительной и неприятной для прослушивания. Думаю, если бы музыкотерапии уделялось больше внимания в различных источниках СМИ, то современное человечество куда серьезнее воспринимало бы это восхитительное, замечательное искусст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54061"/>
                </a:solidFill>
                <a:latin typeface="Calibri"/>
              </a:rPr>
              <a:t>Напоследок хочется сказать, главное слушайте музыку правильно и она никогда не принесет вам вреда, а только наоборот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76C3F-771D-434C-BCFE-7D2EBFD31D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ь и задачи рефер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Цель: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 выявление позитивных и негативных сторон влияния музыки на организм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Задачи: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- изучить информационные источники – книги, энциклопедии, справочники, Интернет-ресурсы по данной тематик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- проанализировать полученную информац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- сделать собственные выводы на основе полученной информации о влиянии музыки на организм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97D4C-F8AD-45CC-A708-C74C03F33F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щее представление о звуке. Слуховой путь челове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С помощью звука такие физиологические функции, как пульс, сердечный ритм, дыхание, пищеварение, могут быть скоординированы. Особое влияние оказывает звук и на психическое состояние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EBB71-83E9-4418-89B2-608DF76279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менение  целебных свойств музыки в древние време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Многие древнейшие учения содержат в себе различные утверждения и опыт, накопленный тысячелетиями, воздействия музыки на животных, растения и человека. Мудрые всегда признавали особую силу зву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67F53-47E2-4F38-B0ED-17407DE2CC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узыкотерап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4061"/>
                </a:solidFill>
                <a:latin typeface="Calibri"/>
              </a:rPr>
              <a:t>Музыкотерапия - одно из наиболее интересных и пока мало исследованных направлений традиционной медици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F4E99-9A86-461F-B83F-C0250D88B4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узыкотерап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Терапевтический эффект этой методики базируется на частотном колебании музыкальных звуков, резонирующих с отдельными органами, системами или всем организмом человека в це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ECA39-A16D-49F4-AD93-3C51ABF9B2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узыкотерап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4061"/>
                </a:solidFill>
                <a:latin typeface="Calibri"/>
              </a:rPr>
              <a:t>Музыкотерапия существует в двух основных формах: активной и рецептивн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4061"/>
                </a:solidFill>
                <a:latin typeface="Calibri"/>
              </a:rPr>
              <a:t>Активная музыкотерапия представляет собой терапевтически направленную, активную музыкальную деятельность: воспроизведение, фантазирование, импровизацию с помощью человеческого голоса и выбранных музыкальных инструмен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D180F-8FC5-400C-9398-BEAA9608A8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узыкотерап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254061"/>
                </a:solidFill>
                <a:latin typeface="Calibri"/>
              </a:rPr>
              <a:t>Рецептивная музыкотерапия предполагает процесс восприятия музыки с терапевтической целью. Участникам группы предлагают прослушать специально подобранные музыкальные произведения, а затем обсудить их собственные переживания, воспоминания, мысли, ассоциации, фантазии, возникающие у них в ходе прослуши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81E0C-320E-4592-AAA6-656F0D4B71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B022-4E80-4D5C-9D47-EAD0BF07B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8172-495E-40A5-B15D-A365534D0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D8E2-0223-4AAA-99A1-5B6C6AEE4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AD7C-E588-4377-B34D-6AE82CD4B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7F718-A1A9-4D99-9619-CC72C2D3A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184AD-06EC-4533-841B-21D7CE28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331E5-E08E-4402-8506-206E41CFD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ECAB4-3142-40AF-A422-19D746EDD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5A092-E598-49A3-AE5A-FD1CBA77D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5DF89-9B26-4FCD-8370-5C3E2592C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A6326-6D5E-4843-9FDD-C8F349A7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92A9-6FA5-49C9-AAB1-572080217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E07AE-576B-427F-8F21-A38BBBFA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75308-D51A-468F-9FE5-6015515B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543F2-D772-4EC9-AC1B-C51F2F55F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CA40D-1757-4382-860C-6755E726B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BD8D1-1A06-44A8-A074-3EE3038ED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779CC-2ACC-4D1B-B637-1C194E0AE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EAAA8-2691-413D-96AD-E27CB431C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D5A2E-F9EC-47CA-BEC7-616C4314A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6F87E-730E-404E-85A7-A927C6B47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21743-3FE2-484F-9E29-EE1A5E517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2CE1-7C99-4045-A94F-39CC875DA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5EB08-5A77-4DFE-99DD-55CA6241E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7C12B-C070-4CD4-A467-AD57E199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580D1-2C73-496B-ABEA-39E7C432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52F80-CB69-44E0-BF97-CAAE8A7B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8CB0A-58E4-4654-9B39-025858ADD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343F9-D294-40EC-AD40-1FCC0DC09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9DAA4-CE4D-4433-BEEF-EE57C5C97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8B115-998C-4106-97AD-686624B51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A8E9C-9076-4F20-9788-73BB73F3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ABB9C-5D10-4B8B-BA16-073075BAF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FFE9-9593-4FD7-B141-2876EF3DD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6CBCD-863E-428F-9477-9EC9B63E8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D9F01-558F-42FC-A838-56D80A76E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7F323-BC40-4A6E-9E05-F7C16595B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C103C-A4C3-49A6-819F-20369831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7BBF7-F51B-428D-9023-12741DD2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3D15D-15AD-4BFD-BD02-D8555B57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AA6B4-D6F3-481B-AF7E-A80B78CDE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9806F-61EF-4D86-8569-4D9E5AB68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43A5E-BCF5-4B82-98B0-DA3D37C60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B0E59-E911-4BEB-8ECF-8AEE4B748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1CB8-B6DE-4E69-A942-5DCA2B817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13AEF-2AAA-4FA5-B3E7-69C5F1477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85DFD-9102-4B7F-8038-80EA610D9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C402F-FC79-4F83-A8A3-8AE76C61D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934AC-6101-446F-B956-69C37E87B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927A8-3EEE-4CE5-912E-F86DC11DA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BB7A6-FF02-45B3-97C7-DED77B01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64838-CA7F-4D7A-B1D8-D406EDC5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24687-6BFA-4364-BD01-492F2802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D05E2-8CED-446A-B45B-0CFCD676D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DAAA2-BE4A-47AF-89B7-BC7B43870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132D-0574-4C9D-8B02-4A3DA1D00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B4E4B-57A7-4FD0-815D-A7275C560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20F11-4A78-48E4-BC12-DFC8491C5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07D28-2758-4CFD-857C-CBCBDFEC6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63CC35-FCD3-4EEB-AB62-E6DA1BEF9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391EB-061F-4300-9F6B-B857893E4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DBD1E-CC58-48D8-B53A-0B1CE58E3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AF2C2-1CA3-4750-A534-52A49F561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1AB01-9FE8-46A5-BEFC-6AF2B810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3B21DC-741B-41A0-B859-76730E83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74104-7CFF-4E8B-BD62-25F26A81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99C2-E521-4BB3-843E-1FCC056F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79A76-5B12-4D1B-8A00-F68F5B920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0DC69-862B-4A13-88E9-DAE3155D0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F4B12-D80E-4CBF-A6A2-3E6A88BC6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7BB7-9B6B-4141-8436-C3108259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D77D-C4AA-4D35-AA96-F95484A3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7D568-FA89-4061-8766-786FE6CA91F6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483AF-8123-4731-B109-6C47E1545C90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A9E26-33A4-4946-AA8C-B408C9F4CE30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26EE5-9835-4449-98F2-C64F4C1209F8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5F7C8-9245-4099-84B1-F55C80B72C25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4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56EB9-6997-44B0-8279-5572C89BE1EA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Rectangle 8" descr=""/>
          <p:cNvPicPr/>
          <p:nvPr/>
        </p:nvPicPr>
        <p:blipFill>
          <a:blip r:embed="rId1"/>
          <a:stretch/>
        </p:blipFill>
        <p:spPr>
          <a:xfrm>
            <a:off x="281160" y="914400"/>
            <a:ext cx="8521560" cy="28717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Автор: Татьяна Иванова, 11 класс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Парабельской СОШ имени Н.А. Образцов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Руководитель: Владислав Николаевич Галимов,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учитель биологии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4" name="011 ВИВАЛЬДИ - ВРЕМЕНА ГОДА (ЛЕТО)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05" name="011 ВИВАЛЬДИ - ВРЕМЕНА ГОДА (ЛЕТО)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30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159745" fill="hold"/>
                                        <p:tgtEl>
                                          <p:spTgt spid="3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6" descr="173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440" y="514440"/>
            <a:ext cx="68864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Calibri"/>
              </a:rPr>
              <a:t>Музыкотерапия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928960" y="1500120"/>
            <a:ext cx="4929120" cy="25005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3763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83763"/>
                </a:solidFill>
                <a:latin typeface="Constantia"/>
              </a:rPr>
              <a:t>Духовная, религиозная музыка восстанавливает душевное равновесие, дарит чувство покоя. Если сравнивать музыку с лекарствами, то религиозная музыка – анальгетик в мире звуков, то есть она облегчает боль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8" name="Picture 15" descr="Rose069"/>
          <p:cNvPicPr/>
          <p:nvPr/>
        </p:nvPicPr>
        <p:blipFill>
          <a:blip r:embed="rId2"/>
          <a:stretch/>
        </p:blipFill>
        <p:spPr>
          <a:xfrm>
            <a:off x="500040" y="1500120"/>
            <a:ext cx="2057400" cy="25434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6" descr="173"/>
          <p:cNvPicPr/>
          <p:nvPr/>
        </p:nvPicPr>
        <p:blipFill>
          <a:blip r:embed="rId3"/>
          <a:stretch/>
        </p:blipFill>
        <p:spPr>
          <a:xfrm>
            <a:off x="3071880" y="3571920"/>
            <a:ext cx="3071880" cy="22064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9" descr=""/>
          <p:cNvPicPr/>
          <p:nvPr/>
        </p:nvPicPr>
        <p:blipFill>
          <a:blip r:embed="rId4"/>
          <a:stretch/>
        </p:blipFill>
        <p:spPr>
          <a:xfrm>
            <a:off x="6715080" y="4214880"/>
            <a:ext cx="1962360" cy="2185920"/>
          </a:xfrm>
          <a:prstGeom prst="rect">
            <a:avLst/>
          </a:prstGeom>
          <a:ln w="0">
            <a:noFill/>
          </a:ln>
        </p:spPr>
      </p:pic>
      <p:sp>
        <p:nvSpPr>
          <p:cNvPr id="361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6" descr="173"/>
          <p:cNvPicPr/>
          <p:nvPr/>
        </p:nvPicPr>
        <p:blipFill>
          <a:blip r:embed="rId1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514080"/>
            <a:ext cx="6743880" cy="842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Calibri"/>
              </a:rPr>
              <a:t>Музыка Моцарта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42600" y="1643040"/>
            <a:ext cx="3786120" cy="35719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86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3763"/>
                </a:solidFill>
                <a:latin typeface="Constantia"/>
              </a:rPr>
              <a:t>Вольфганг Амадей Моцарт родился 27 января 1756 года в австрийском городе Зальцбург. Музыкальный гений Моцарта проявился уже в раннем детстве. Он написал свою первую симфонию, когда ему еще не было 10 лет, а первую успешную оперу - к 12 годам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5" name="Picture 2" descr="mozart"/>
          <p:cNvPicPr/>
          <p:nvPr/>
        </p:nvPicPr>
        <p:blipFill>
          <a:blip r:embed="rId2"/>
          <a:stretch/>
        </p:blipFill>
        <p:spPr>
          <a:xfrm>
            <a:off x="5000760" y="1571760"/>
            <a:ext cx="2886120" cy="3608280"/>
          </a:xfrm>
          <a:prstGeom prst="rect">
            <a:avLst/>
          </a:prstGeom>
          <a:ln w="0">
            <a:noFill/>
          </a:ln>
        </p:spPr>
      </p:pic>
      <p:sp>
        <p:nvSpPr>
          <p:cNvPr id="36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3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6" descr="173"/>
          <p:cNvPicPr/>
          <p:nvPr/>
        </p:nvPicPr>
        <p:blipFill>
          <a:blip r:embed="rId1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440" y="514080"/>
            <a:ext cx="6100920" cy="842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Calibri"/>
              </a:rPr>
              <a:t>Эффект Моцарта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71520" y="1356840"/>
            <a:ext cx="3243240" cy="446724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0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3763"/>
                </a:solidFill>
                <a:latin typeface="Constantia"/>
              </a:rPr>
              <a:t>Произведения Моцарта универсальны: они рекомендуются для снятия стресса, эффективного усвоения учебного материала, от головной боли, а также во время восстановительного периода, например, после экстремальных ситуаций. Причем лечебным эффектом обладают все произведения Моцарта. Это явление получило название: эффект Моцарт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0" name="Picture 3" descr="0320076235243"/>
          <p:cNvPicPr/>
          <p:nvPr/>
        </p:nvPicPr>
        <p:blipFill>
          <a:blip r:embed="rId2"/>
          <a:stretch/>
        </p:blipFill>
        <p:spPr>
          <a:xfrm>
            <a:off x="928800" y="2071800"/>
            <a:ext cx="2000160" cy="21603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1" descr="1"/>
          <p:cNvPicPr/>
          <p:nvPr/>
        </p:nvPicPr>
        <p:blipFill>
          <a:blip r:embed="rId3"/>
          <a:stretch/>
        </p:blipFill>
        <p:spPr>
          <a:xfrm>
            <a:off x="6500880" y="2071800"/>
            <a:ext cx="2000160" cy="2143080"/>
          </a:xfrm>
          <a:prstGeom prst="rect">
            <a:avLst/>
          </a:prstGeom>
          <a:ln w="0">
            <a:noFill/>
          </a:ln>
        </p:spPr>
      </p:pic>
      <p:sp>
        <p:nvSpPr>
          <p:cNvPr id="372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6" descr="173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440" y="514440"/>
            <a:ext cx="774396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Влияние музыки на развитие плод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571560" y="1285560"/>
            <a:ext cx="4143240" cy="20718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3763"/>
                </a:solidFill>
                <a:latin typeface="Constantia"/>
              </a:rPr>
              <a:t>Исследования врачей доказали, что уже на пятом месяце беременности ребенок слышит и различает звуки. Он может реагировать на громкость и ритм мелодии. Она может ему нравиться или нет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6" name="Picture 8" descr="Музыка и беременность"/>
          <p:cNvPicPr/>
          <p:nvPr/>
        </p:nvPicPr>
        <p:blipFill>
          <a:blip r:embed="rId2"/>
          <a:stretch/>
        </p:blipFill>
        <p:spPr>
          <a:xfrm>
            <a:off x="428760" y="1285920"/>
            <a:ext cx="3071520" cy="20527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 txBox="1"/>
          <p:nvPr/>
        </p:nvSpPr>
        <p:spPr>
          <a:xfrm>
            <a:off x="714240" y="3643200"/>
            <a:ext cx="4786560" cy="2571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89000"/>
          </a:bodyPr>
          <a:p>
            <a:pPr marL="242640" indent="-242640" algn="ctr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3763"/>
                </a:solidFill>
                <a:latin typeface="Constantia"/>
              </a:rPr>
              <a:t>Дети матерей, которые на двадцать восьмой - тридцать шестой неделях беременности слушали музыку, быстрее других начинают реагировать на звуки, узнавать мелодии. У них лучше развита память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ctr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3763"/>
                </a:solidFill>
                <a:latin typeface="Constantia"/>
              </a:rPr>
              <a:t>Также доказано, что малыши узнают, активнее реагируют и предпочитают ту музыку, которую они "слышали" до рождения, будучи в утробе матер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8" name="Picture 9" descr=""/>
          <p:cNvPicPr/>
          <p:nvPr/>
        </p:nvPicPr>
        <p:blipFill>
          <a:blip r:embed="rId3"/>
          <a:stretch/>
        </p:blipFill>
        <p:spPr>
          <a:xfrm>
            <a:off x="5643720" y="3500280"/>
            <a:ext cx="2381040" cy="2381400"/>
          </a:xfrm>
          <a:prstGeom prst="rect">
            <a:avLst/>
          </a:prstGeom>
          <a:ln w="0">
            <a:noFill/>
          </a:ln>
        </p:spPr>
      </p:pic>
      <p:sp>
        <p:nvSpPr>
          <p:cNvPr id="37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5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6" descr="173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57862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43840" cy="797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Отрицательное значение музыки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500040" y="1357200"/>
            <a:ext cx="5114880" cy="26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83763"/>
                </a:solidFill>
                <a:latin typeface="Constantia"/>
              </a:rPr>
              <a:t>	</a:t>
            </a:r>
            <a:r>
              <a:rPr b="0" lang="ru-RU" sz="1600" spc="-1" strike="noStrike">
                <a:solidFill>
                  <a:srgbClr val="083763"/>
                </a:solidFill>
                <a:latin typeface="Constantia"/>
              </a:rPr>
              <a:t>В нашем сложном земном мире любое явление можно направить и в положительную и в отрицательную стороны. Музыка - не исключение. Может быть, она служит началом многих духовных язв, но вопрос о гармонии необычно сложен. В последние десятилетия ХХ века появилось множество музыкальных направлений и большинство из них, отмечают исследователи, действуют разрушительно на живые организмы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83" name="Picture 21" descr=""/>
          <p:cNvPicPr/>
          <p:nvPr/>
        </p:nvPicPr>
        <p:blipFill>
          <a:blip r:embed="rId2"/>
          <a:stretch/>
        </p:blipFill>
        <p:spPr>
          <a:xfrm>
            <a:off x="1500120" y="3929040"/>
            <a:ext cx="2357640" cy="22096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6" descr=""/>
          <p:cNvPicPr/>
          <p:nvPr/>
        </p:nvPicPr>
        <p:blipFill>
          <a:blip r:embed="rId3"/>
          <a:stretch/>
        </p:blipFill>
        <p:spPr>
          <a:xfrm>
            <a:off x="5214960" y="3929040"/>
            <a:ext cx="2643120" cy="22035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" descr="endorfmusic02-1212876829"/>
          <p:cNvPicPr/>
          <p:nvPr/>
        </p:nvPicPr>
        <p:blipFill>
          <a:blip r:embed="rId4"/>
          <a:stretch/>
        </p:blipFill>
        <p:spPr>
          <a:xfrm>
            <a:off x="6215040" y="1214280"/>
            <a:ext cx="1643040" cy="2479680"/>
          </a:xfrm>
          <a:prstGeom prst="rect">
            <a:avLst/>
          </a:prstGeom>
          <a:ln w="0">
            <a:noFill/>
          </a:ln>
        </p:spPr>
      </p:pic>
      <p:sp>
        <p:nvSpPr>
          <p:cNvPr id="3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0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3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6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9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6" descr="173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578628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15480" cy="725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Интересные факты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89" name="Picture 15" descr="Прикрепленное изображение"/>
          <p:cNvPicPr/>
          <p:nvPr/>
        </p:nvPicPr>
        <p:blipFill>
          <a:blip r:embed="rId2"/>
          <a:stretch/>
        </p:blipFill>
        <p:spPr>
          <a:xfrm>
            <a:off x="642960" y="1500120"/>
            <a:ext cx="3686040" cy="2643120"/>
          </a:xfrm>
          <a:prstGeom prst="rect">
            <a:avLst/>
          </a:prstGeom>
          <a:ln w="0">
            <a:noFill/>
          </a:ln>
        </p:spPr>
      </p:pic>
      <p:sp>
        <p:nvSpPr>
          <p:cNvPr id="390" name="Прямоугольник 7"/>
          <p:cNvSpPr/>
          <p:nvPr/>
        </p:nvSpPr>
        <p:spPr>
          <a:xfrm>
            <a:off x="4500720" y="1428840"/>
            <a:ext cx="392904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83763"/>
                </a:solidFill>
                <a:latin typeface="Arial"/>
              </a:rPr>
              <a:t>На фотографии показан опыт где воде дают слушать музыку, снизу фотография - кристаллы, замороженные после прослушивания 'Пасторали' Бетховена, одной из его самых известных симфоний. Это яркая, радостная музыкальная история. И этот красивый кристалл доказывает тот факт, что хорошая музыка позитивно влияет на вод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2" descr="Прикрепленное изображение"/>
          <p:cNvPicPr/>
          <p:nvPr/>
        </p:nvPicPr>
        <p:blipFill>
          <a:blip r:embed="rId3"/>
          <a:stretch/>
        </p:blipFill>
        <p:spPr>
          <a:xfrm>
            <a:off x="4786200" y="3703680"/>
            <a:ext cx="3129120" cy="2654280"/>
          </a:xfrm>
          <a:prstGeom prst="rect">
            <a:avLst/>
          </a:prstGeom>
          <a:ln w="0">
            <a:noFill/>
          </a:ln>
        </p:spPr>
      </p:pic>
      <p:sp>
        <p:nvSpPr>
          <p:cNvPr id="3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6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9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6" descr="173"/>
          <p:cNvPicPr/>
          <p:nvPr/>
        </p:nvPicPr>
        <p:blipFill>
          <a:blip r:embed="rId1"/>
          <a:stretch/>
        </p:blipFill>
        <p:spPr>
          <a:xfrm>
            <a:off x="0" y="1357200"/>
            <a:ext cx="9144000" cy="550080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Интересные эксперимент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599840"/>
            <a:ext cx="3828960" cy="36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83763"/>
                </a:solidFill>
                <a:latin typeface="Constantia"/>
              </a:rPr>
              <a:t>	</a:t>
            </a:r>
            <a:r>
              <a:rPr b="0" lang="ru-RU" sz="1800" spc="-1" strike="noStrike">
                <a:solidFill>
                  <a:srgbClr val="083763"/>
                </a:solidFill>
                <a:latin typeface="Constantia"/>
              </a:rPr>
              <a:t>Фотография справа - кристаллы, замороженные после прослушивания 'Прощальной Песни' Шопена. </a:t>
            </a:r>
            <a:br>
              <a:rPr sz="1800"/>
            </a:br>
            <a:r>
              <a:rPr b="0" lang="ru-RU" sz="1800" spc="-1" strike="noStrike">
                <a:solidFill>
                  <a:srgbClr val="083763"/>
                </a:solidFill>
                <a:latin typeface="Constantia"/>
              </a:rPr>
              <a:t>Он приобрел такую форму, потому что на него повлияла 'Прощальная Песня'? Основная форма кристалла почти идеально разделена на маленькие частицы, которые 'отделились' друг от друга. И это, несмотря на тот факт, что увеличительная сила микроскопа оставалась такой же, как и на других фотографиях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96" name="Picture 12" descr="Прикрепленное изображение"/>
          <p:cNvPicPr/>
          <p:nvPr/>
        </p:nvPicPr>
        <p:blipFill>
          <a:blip r:embed="rId2"/>
          <a:stretch/>
        </p:blipFill>
        <p:spPr>
          <a:xfrm>
            <a:off x="4929120" y="1857240"/>
            <a:ext cx="3344760" cy="2757600"/>
          </a:xfrm>
          <a:prstGeom prst="rect">
            <a:avLst/>
          </a:prstGeom>
          <a:ln w="0">
            <a:noFill/>
          </a:ln>
        </p:spPr>
      </p:pic>
      <p:sp>
        <p:nvSpPr>
          <p:cNvPr id="397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1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6" descr="173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6760" cy="939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Интересные эксперимент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28760" y="4429080"/>
            <a:ext cx="828648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3763"/>
                </a:solidFill>
                <a:latin typeface="Constantia"/>
              </a:rPr>
              <a:t>	</a:t>
            </a:r>
            <a:r>
              <a:rPr b="1" lang="ru-RU" sz="1800" spc="-1" strike="noStrike">
                <a:solidFill>
                  <a:srgbClr val="083763"/>
                </a:solidFill>
                <a:latin typeface="Constantia"/>
              </a:rPr>
              <a:t>Интересный эксперимент проводился с человеком, который каждый день говорил две фразы: '</a:t>
            </a:r>
            <a:r>
              <a:rPr b="1" i="1" lang="ru-RU" sz="1800" spc="-1" strike="noStrike">
                <a:solidFill>
                  <a:srgbClr val="083763"/>
                </a:solidFill>
                <a:latin typeface="Constantia"/>
              </a:rPr>
              <a:t>Спасибо</a:t>
            </a:r>
            <a:r>
              <a:rPr b="1" lang="ru-RU" sz="1800" spc="-1" strike="noStrike">
                <a:solidFill>
                  <a:srgbClr val="083763"/>
                </a:solidFill>
                <a:latin typeface="Constantia"/>
              </a:rPr>
              <a:t>' и '</a:t>
            </a:r>
            <a:r>
              <a:rPr b="1" i="1" lang="ru-RU" sz="1800" spc="-1" strike="noStrike">
                <a:solidFill>
                  <a:srgbClr val="083763"/>
                </a:solidFill>
                <a:latin typeface="Constantia"/>
              </a:rPr>
              <a:t>Ты - дурак</a:t>
            </a:r>
            <a:r>
              <a:rPr b="1" lang="ru-RU" sz="1800" spc="-1" strike="noStrike">
                <a:solidFill>
                  <a:srgbClr val="083763"/>
                </a:solidFill>
                <a:latin typeface="Constantia"/>
              </a:rPr>
              <a:t>' некоторому количеству риса. В этом эксперименте в два одинаковых контейнера поместили вареный рис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01" name="Picture 13" descr="Прикрепленное изображение"/>
          <p:cNvPicPr/>
          <p:nvPr/>
        </p:nvPicPr>
        <p:blipFill>
          <a:blip r:embed="rId2"/>
          <a:stretch/>
        </p:blipFill>
        <p:spPr>
          <a:xfrm>
            <a:off x="2071800" y="1500120"/>
            <a:ext cx="4628880" cy="2500560"/>
          </a:xfrm>
          <a:prstGeom prst="rect">
            <a:avLst/>
          </a:prstGeom>
          <a:ln w="0">
            <a:noFill/>
          </a:ln>
        </p:spPr>
      </p:pic>
      <p:sp>
        <p:nvSpPr>
          <p:cNvPr id="4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6" descr="173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578628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457200" y="856800"/>
            <a:ext cx="8329680" cy="54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3763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83763"/>
                </a:solidFill>
                <a:latin typeface="Constantia"/>
              </a:rPr>
              <a:t>Два ученика начальной школы говорили рису слова каждый день, на протяжении месяца, как только они возвращались домой после школы. В результате, рис, которому дети говорили '</a:t>
            </a:r>
            <a:r>
              <a:rPr b="0" i="1" lang="ru-RU" sz="2400" spc="-1" strike="noStrike">
                <a:solidFill>
                  <a:srgbClr val="083763"/>
                </a:solidFill>
                <a:latin typeface="Constantia"/>
              </a:rPr>
              <a:t>спасибо</a:t>
            </a:r>
            <a:r>
              <a:rPr b="0" lang="ru-RU" sz="2400" spc="-1" strike="noStrike">
                <a:solidFill>
                  <a:srgbClr val="083763"/>
                </a:solidFill>
                <a:latin typeface="Constantia"/>
              </a:rPr>
              <a:t>', хорошо бродил, и имел приятный аромат бродившего риса. Другой контейнер с рисом, которому дети говорили '</a:t>
            </a:r>
            <a:r>
              <a:rPr b="0" i="1" lang="ru-RU" sz="2400" spc="-1" strike="noStrike">
                <a:solidFill>
                  <a:srgbClr val="083763"/>
                </a:solidFill>
                <a:latin typeface="Constantia"/>
              </a:rPr>
              <a:t>ты - дурак</a:t>
            </a:r>
            <a:r>
              <a:rPr b="0" lang="ru-RU" sz="2400" spc="-1" strike="noStrike">
                <a:solidFill>
                  <a:srgbClr val="083763"/>
                </a:solidFill>
                <a:latin typeface="Constantia"/>
              </a:rPr>
              <a:t>', стал черным и сгнил. Они сказали, что его запах был крайне отвратительным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3763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83763"/>
                </a:solidFill>
                <a:latin typeface="Constantia"/>
              </a:rPr>
              <a:t>Здесь не только вода, но также и микробы вовлечены в результат. Микробы так же как и мы, они работают хорошо, если их хвалят, и становятся бездеятельными, если их оскорбляют. Кажется, что слышал '</a:t>
            </a:r>
            <a:r>
              <a:rPr b="0" i="1" lang="ru-RU" sz="2400" spc="-1" strike="noStrike">
                <a:solidFill>
                  <a:srgbClr val="083763"/>
                </a:solidFill>
                <a:latin typeface="Constantia"/>
              </a:rPr>
              <a:t>спасибо</a:t>
            </a:r>
            <a:r>
              <a:rPr b="0" lang="ru-RU" sz="2400" spc="-1" strike="noStrike">
                <a:solidFill>
                  <a:srgbClr val="083763"/>
                </a:solidFill>
                <a:latin typeface="Constantia"/>
              </a:rPr>
              <a:t>' и '</a:t>
            </a:r>
            <a:r>
              <a:rPr b="0" i="1" lang="ru-RU" sz="2400" spc="-1" strike="noStrike">
                <a:solidFill>
                  <a:srgbClr val="083763"/>
                </a:solidFill>
                <a:latin typeface="Constantia"/>
              </a:rPr>
              <a:t>ты - дурак</a:t>
            </a:r>
            <a:r>
              <a:rPr b="0" lang="ru-RU" sz="2400" spc="-1" strike="noStrike">
                <a:solidFill>
                  <a:srgbClr val="083763"/>
                </a:solidFill>
                <a:latin typeface="Constantia"/>
              </a:rPr>
              <a:t>', микробы, должно быть, сгруппировались в полезные и вредные бактери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5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6" descr="173"/>
          <p:cNvPicPr/>
          <p:nvPr/>
        </p:nvPicPr>
        <p:blipFill>
          <a:blip r:embed="rId1"/>
          <a:stretch/>
        </p:blipFill>
        <p:spPr>
          <a:xfrm>
            <a:off x="0" y="928800"/>
            <a:ext cx="9144000" cy="592920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154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Интересные эксперимент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7200" y="3938400"/>
            <a:ext cx="797256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В отчете говорится: 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"Это слова, которые молодые люди часто используют в повседневной жизни. Постепенно форма воды стала настолько уродливой, как мы и ожидали. Кристаллы были искаженными и рассеянными. Это действительно было видимым образом слов: '</a:t>
            </a:r>
            <a:r>
              <a:rPr b="0" i="1" lang="ru-RU" sz="1800" spc="-1" strike="noStrike">
                <a:solidFill>
                  <a:srgbClr val="002060"/>
                </a:solidFill>
                <a:latin typeface="Constantia"/>
              </a:rPr>
              <a:t>Ты надоела мне</a:t>
            </a: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' и '</a:t>
            </a:r>
            <a:r>
              <a:rPr b="0" i="1" lang="ru-RU" sz="1800" spc="-1" strike="noStrike">
                <a:solidFill>
                  <a:srgbClr val="002060"/>
                </a:solidFill>
                <a:latin typeface="Constantia"/>
              </a:rPr>
              <a:t>Я убью тебя</a:t>
            </a: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'. То, что мы живем в мире, в котором подобные слова часто используются, действительно пугает. Мы должны сделать что-то с самими собой"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09" name="Picture 9" descr="Прикрепленное изображение"/>
          <p:cNvPicPr/>
          <p:nvPr/>
        </p:nvPicPr>
        <p:blipFill>
          <a:blip r:embed="rId2"/>
          <a:stretch/>
        </p:blipFill>
        <p:spPr>
          <a:xfrm>
            <a:off x="642960" y="1000080"/>
            <a:ext cx="3246480" cy="278604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929040" y="1213920"/>
            <a:ext cx="457200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199080" indent="-199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В следующем эксперименте приняла участие вода. Слова, сказанные воде, были следующими: </a:t>
            </a:r>
            <a:r>
              <a:rPr b="0" i="1" lang="ru-RU" sz="2400" spc="-1" strike="noStrike">
                <a:solidFill>
                  <a:srgbClr val="002060"/>
                </a:solidFill>
                <a:latin typeface="Constantia"/>
              </a:rPr>
              <a:t>'Ты надоела мне. Я убью тебя‘</a:t>
            </a: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5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6" descr="173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578628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88688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Актуальность тем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6000"/>
          </a:bodyPr>
          <a:p>
            <a:pPr marL="26172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1400" spc="-1" strike="noStrike">
                <a:solidFill>
                  <a:srgbClr val="002060"/>
                </a:solidFill>
                <a:latin typeface="Constantia"/>
              </a:rPr>
              <a:t>Современные звуки музыки уже не те, что были раньше. И в большей степени их прослушивание  отрицательно сказывается на нашем поведении, восприятии мира и самом главном – здоровье нашего организма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Constantia"/>
              </a:rPr>
              <a:t>	</a:t>
            </a:r>
            <a:r>
              <a:rPr b="1" lang="ru-RU" sz="1400" spc="-1" strike="noStrike">
                <a:solidFill>
                  <a:srgbClr val="002060"/>
                </a:solidFill>
                <a:latin typeface="Constantia"/>
              </a:rPr>
              <a:t>Но, конечно же, существует и такая музыка, которая благотворно воздействует на организм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Constantia"/>
              </a:rPr>
              <a:t>	</a:t>
            </a:r>
            <a:r>
              <a:rPr b="1" lang="ru-RU" sz="1400" spc="-1" strike="noStrike">
                <a:solidFill>
                  <a:srgbClr val="002060"/>
                </a:solidFill>
                <a:latin typeface="Constantia"/>
              </a:rPr>
              <a:t>И поэтому я решила подробнее узнать об этих негативных сторонах и раскрыть эту, столь важную тему.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0" name="Picture 5" descr=""/>
          <p:cNvPicPr/>
          <p:nvPr/>
        </p:nvPicPr>
        <p:blipFill>
          <a:blip r:embed="rId2"/>
          <a:stretch/>
        </p:blipFill>
        <p:spPr>
          <a:xfrm>
            <a:off x="3575160" y="2019240"/>
            <a:ext cx="5111640" cy="3886200"/>
          </a:xfrm>
          <a:prstGeom prst="rect">
            <a:avLst/>
          </a:prstGeom>
          <a:ln w="0">
            <a:noFill/>
          </a:ln>
        </p:spPr>
      </p:pic>
      <p:sp>
        <p:nvSpPr>
          <p:cNvPr id="311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6" descr="173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578628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58040" cy="797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Интересные эксперимент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6840" y="3938760"/>
            <a:ext cx="8186760" cy="23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1600" spc="-1" strike="noStrike">
                <a:solidFill>
                  <a:srgbClr val="002060"/>
                </a:solidFill>
                <a:latin typeface="Constantia"/>
              </a:rPr>
              <a:t>Автор говорит в своем отчете: </a:t>
            </a:r>
            <a:br>
              <a:rPr sz="1600"/>
            </a:br>
            <a:r>
              <a:rPr b="0" lang="ru-RU" sz="1600" spc="-1" strike="noStrike">
                <a:solidFill>
                  <a:srgbClr val="002060"/>
                </a:solidFill>
                <a:latin typeface="Constantia"/>
              </a:rPr>
              <a:t>"Мы делали этот эксперимент, основываясь на идее, что даже когда стоит один и тот же телевизор, различные программы изменяют результат. Делая так, даже дистиллированная вода без этикетки  '</a:t>
            </a:r>
            <a:r>
              <a:rPr b="0" i="1" lang="ru-RU" sz="1600" spc="-1" strike="noStrike">
                <a:solidFill>
                  <a:srgbClr val="002060"/>
                </a:solidFill>
                <a:latin typeface="Constantia"/>
              </a:rPr>
              <a:t>Любовь, Благодарность</a:t>
            </a:r>
            <a:r>
              <a:rPr b="0" lang="ru-RU" sz="1600" spc="-1" strike="noStrike">
                <a:solidFill>
                  <a:srgbClr val="002060"/>
                </a:solidFill>
                <a:latin typeface="Constantia"/>
              </a:rPr>
              <a:t>' на ней, показала нам красивый кристалл. После просмотра всех этих фотографий, для нас не трудно сделать следующий вывод: вне зависимости от того, было ли показано письмо, музыка или телевизионная программа, вода показывает невероятную способность улавливать определенные послания, спрятанные за поверхностными формами или даже отличать их моральный уровень"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5" name="Picture 10" descr="Прикрепленное изображение"/>
          <p:cNvPicPr/>
          <p:nvPr/>
        </p:nvPicPr>
        <p:blipFill>
          <a:blip r:embed="rId2"/>
          <a:stretch/>
        </p:blipFill>
        <p:spPr>
          <a:xfrm>
            <a:off x="1071720" y="1071720"/>
            <a:ext cx="3071520" cy="26557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648320" y="1600200"/>
            <a:ext cx="420984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199080" indent="-199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Дистиллированная вода, получающая электромагнитные волны '</a:t>
            </a:r>
            <a:r>
              <a:rPr b="0" i="1" lang="ru-RU" sz="2400" spc="-1" strike="noStrike">
                <a:solidFill>
                  <a:srgbClr val="002060"/>
                </a:solidFill>
                <a:latin typeface="Constantia"/>
              </a:rPr>
              <a:t>Любовь, Благодарность</a:t>
            </a: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'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7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6" descr="173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578628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71680" y="500040"/>
            <a:ext cx="664344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Выводы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2214360" y="1571400"/>
            <a:ext cx="4886280" cy="35002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87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83763"/>
                </a:solidFill>
                <a:latin typeface="Constantia"/>
              </a:rPr>
              <a:t>В итоге своего мини-исследования  я получила очень много полезной и новой  для меня информации, которой хотелось бы поделиться со всеми людьми и развеять многие мнения о том, что музыка может быть только губительной и неприятной для прослушивания. Думаю, если бы музыкотерапии уделялось больше внимания в различных источниках СМИ, то современное человечество куда серьезнее воспринимало бы это восхитительное, замечательное искусство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83763"/>
                </a:solidFill>
                <a:latin typeface="Constantia"/>
              </a:rPr>
              <a:t>Напоследок хочется сказать, главное слушайте музыку правильно и она никогда не принесет вам вреда, а только наоборот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21" name="Picture 12" descr=""/>
          <p:cNvPicPr/>
          <p:nvPr/>
        </p:nvPicPr>
        <p:blipFill>
          <a:blip r:embed="rId2"/>
          <a:stretch/>
        </p:blipFill>
        <p:spPr>
          <a:xfrm>
            <a:off x="7143840" y="3929040"/>
            <a:ext cx="1714320" cy="251136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5" descr=" Мистицизм звука. Неслышимая жизнь."/>
          <p:cNvPicPr/>
          <p:nvPr/>
        </p:nvPicPr>
        <p:blipFill>
          <a:blip r:embed="rId3"/>
          <a:stretch/>
        </p:blipFill>
        <p:spPr>
          <a:xfrm>
            <a:off x="357120" y="1357200"/>
            <a:ext cx="1643040" cy="2438640"/>
          </a:xfrm>
          <a:prstGeom prst="rect">
            <a:avLst/>
          </a:prstGeom>
          <a:ln w="0">
            <a:noFill/>
          </a:ln>
        </p:spPr>
      </p:pic>
      <p:pic>
        <p:nvPicPr>
          <p:cNvPr id="423" name="035 БЕТХОВЕН - К ЭЛИЗЕ.MP3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24" name="035 БЕТХОВЕН - К ЭЛИЗЕ.MP3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25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9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2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5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6" dur="173067" fill="hold"/>
                                        <p:tgtEl>
                                          <p:spTgt spid="4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6" descr="173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578628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Цель и задачи реферат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2600" spc="-1" strike="noStrike">
                <a:solidFill>
                  <a:srgbClr val="002060"/>
                </a:solidFill>
                <a:latin typeface="Constantia"/>
              </a:rPr>
              <a:t>Цель: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 выявление позитивных и негативных сторон влияния музыки на организм человек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	</a:t>
            </a:r>
            <a:r>
              <a:rPr b="1" lang="ru-RU" sz="2600" spc="-1" strike="noStrike">
                <a:solidFill>
                  <a:srgbClr val="002060"/>
                </a:solidFill>
                <a:latin typeface="Constantia"/>
              </a:rPr>
              <a:t>Задачи: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- изучить информационные источники – книги, энциклопедии, справочники, Интернет-ресурсы по данной тематик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- проанализировать полученную информацию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- сделать собственные выводы на основе полученной информации о влиянии музыки на организм человек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6" descr="173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578628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3864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Общее представление о звуке. Слуховой путь человека.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57160" y="1928880"/>
            <a:ext cx="3314880" cy="392904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84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3763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83763"/>
                </a:solidFill>
                <a:latin typeface="Constantia"/>
              </a:rPr>
              <a:t>С помощью звука такие физиологические функции, как пульс, сердечный ритм, дыхание, пищеварение, могут быть скоординированы. Особое влияние оказывает звук и на психическое состояние человек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9" name="Picture 7" descr="0520063101356"/>
          <p:cNvPicPr/>
          <p:nvPr/>
        </p:nvPicPr>
        <p:blipFill>
          <a:blip r:embed="rId2"/>
          <a:stretch/>
        </p:blipFill>
        <p:spPr>
          <a:xfrm>
            <a:off x="4214880" y="1785960"/>
            <a:ext cx="1785960" cy="20890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7" descr=""/>
          <p:cNvPicPr/>
          <p:nvPr/>
        </p:nvPicPr>
        <p:blipFill>
          <a:blip r:embed="rId3"/>
          <a:stretch/>
        </p:blipFill>
        <p:spPr>
          <a:xfrm>
            <a:off x="6000840" y="2714760"/>
            <a:ext cx="2762280" cy="3543120"/>
          </a:xfrm>
          <a:prstGeom prst="rect">
            <a:avLst/>
          </a:prstGeom>
          <a:ln w="0">
            <a:noFill/>
          </a:ln>
        </p:spPr>
      </p:pic>
      <p:sp>
        <p:nvSpPr>
          <p:cNvPr id="321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9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2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5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6" descr="173"/>
          <p:cNvPicPr/>
          <p:nvPr/>
        </p:nvPicPr>
        <p:blipFill>
          <a:blip r:embed="rId1"/>
          <a:stretch/>
        </p:blipFill>
        <p:spPr>
          <a:xfrm>
            <a:off x="0" y="1000080"/>
            <a:ext cx="9144000" cy="58579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Применение  целебных свойств музыки в древние времен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24" name="Picture 7" descr="Музыка влияет на духовную сущность личности."/>
          <p:cNvPicPr/>
          <p:nvPr/>
        </p:nvPicPr>
        <p:blipFill>
          <a:blip r:embed="rId2"/>
          <a:stretch/>
        </p:blipFill>
        <p:spPr>
          <a:xfrm>
            <a:off x="6357960" y="1571760"/>
            <a:ext cx="2173320" cy="27572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8" descr="Влияние музыки на психику человека"/>
          <p:cNvPicPr/>
          <p:nvPr/>
        </p:nvPicPr>
        <p:blipFill>
          <a:blip r:embed="rId3"/>
          <a:stretch/>
        </p:blipFill>
        <p:spPr>
          <a:xfrm>
            <a:off x="357120" y="1571760"/>
            <a:ext cx="1928880" cy="27558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1" descr=" Творчество &lt;i&gt;хиндустани&lt;/i&gt;."/>
          <p:cNvPicPr/>
          <p:nvPr/>
        </p:nvPicPr>
        <p:blipFill>
          <a:blip r:embed="rId4"/>
          <a:stretch/>
        </p:blipFill>
        <p:spPr>
          <a:xfrm>
            <a:off x="2928960" y="4286160"/>
            <a:ext cx="3071880" cy="237024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2571840" y="1571400"/>
            <a:ext cx="357192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3763"/>
                </a:solidFill>
                <a:latin typeface="Constantia"/>
              </a:rPr>
              <a:t>	</a:t>
            </a:r>
            <a:r>
              <a:rPr b="0" lang="ru-RU" sz="1800" spc="-1" strike="noStrike">
                <a:solidFill>
                  <a:srgbClr val="083763"/>
                </a:solidFill>
                <a:latin typeface="Constantia"/>
              </a:rPr>
              <a:t>Многие древнейшие учения содержат в себе различные утверждения и опыт, накопленный тысячелетиями, воздействия музыки на животных, растения и человека. Мудрые всегда признавали особую силу звуков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6" descr="173"/>
          <p:cNvPicPr/>
          <p:nvPr/>
        </p:nvPicPr>
        <p:blipFill>
          <a:blip r:embed="rId1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440" y="514080"/>
            <a:ext cx="4457880" cy="842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Музыкотерапия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42600" y="1643040"/>
            <a:ext cx="2886120" cy="3967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3763"/>
                </a:solidFill>
                <a:latin typeface="Constantia"/>
              </a:rPr>
              <a:t>Музыкотерапия - одно из наиболее интересных и пока мало исследованных направлений традиционной медицины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32" name="Picture 9" descr=""/>
          <p:cNvPicPr/>
          <p:nvPr/>
        </p:nvPicPr>
        <p:blipFill>
          <a:blip r:embed="rId2"/>
          <a:stretch/>
        </p:blipFill>
        <p:spPr>
          <a:xfrm>
            <a:off x="4214880" y="1428840"/>
            <a:ext cx="3929040" cy="38592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1" descr="Занятия музыкой влияют на физиологию мозга"/>
          <p:cNvPicPr/>
          <p:nvPr/>
        </p:nvPicPr>
        <p:blipFill>
          <a:blip r:embed="rId3"/>
          <a:stretch/>
        </p:blipFill>
        <p:spPr>
          <a:xfrm>
            <a:off x="1143000" y="3571920"/>
            <a:ext cx="1714680" cy="1714320"/>
          </a:xfrm>
          <a:prstGeom prst="rect">
            <a:avLst/>
          </a:prstGeom>
          <a:ln w="0">
            <a:noFill/>
          </a:ln>
        </p:spPr>
      </p:pic>
      <p:sp>
        <p:nvSpPr>
          <p:cNvPr id="334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6" descr="173"/>
          <p:cNvPicPr/>
          <p:nvPr/>
        </p:nvPicPr>
        <p:blipFill>
          <a:blip r:embed="rId1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514080"/>
            <a:ext cx="5029200" cy="842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Музыкотерапия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26812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4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3763"/>
                </a:solidFill>
                <a:latin typeface="Constantia"/>
              </a:rPr>
              <a:t>Терапевтический эффект этой методики базируется на частотном колебании музыкальных звуков, резонирующих с отдельными органами, системами или всем организмом человека в целом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38" name="Picture 11" descr=" Музыкальная терапия для детей"/>
          <p:cNvPicPr/>
          <p:nvPr/>
        </p:nvPicPr>
        <p:blipFill>
          <a:blip r:embed="rId2"/>
          <a:stretch/>
        </p:blipFill>
        <p:spPr>
          <a:xfrm>
            <a:off x="1714680" y="4071960"/>
            <a:ext cx="1714320" cy="23432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7" descr="Sound Therapy"/>
          <p:cNvPicPr/>
          <p:nvPr/>
        </p:nvPicPr>
        <p:blipFill>
          <a:blip r:embed="rId3"/>
          <a:stretch/>
        </p:blipFill>
        <p:spPr>
          <a:xfrm>
            <a:off x="4214880" y="1571760"/>
            <a:ext cx="3784680" cy="4140000"/>
          </a:xfrm>
          <a:prstGeom prst="rect">
            <a:avLst/>
          </a:prstGeom>
          <a:ln w="0">
            <a:noFill/>
          </a:ln>
        </p:spPr>
      </p:pic>
      <p:sp>
        <p:nvSpPr>
          <p:cNvPr id="340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6" descr="173"/>
          <p:cNvPicPr/>
          <p:nvPr/>
        </p:nvPicPr>
        <p:blipFill>
          <a:blip r:embed="rId1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514080"/>
            <a:ext cx="5386320" cy="842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Музыкотерапия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100320" cy="3967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3000"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83763"/>
                </a:solidFill>
                <a:latin typeface="Constantia"/>
              </a:rPr>
              <a:t>Музыкотерапия существует в двух основных формах: активной и рецептивной.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83763"/>
                </a:solidFill>
                <a:latin typeface="Constantia"/>
              </a:rPr>
              <a:t>Активная музыкотерапия представляет собой терапевтически направленную, активную музыкальную деятельность: воспроизведение, фантазирование, импровизацию с помощью человеческого голоса и выбранных музыкальных инструментов.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4" name="Picture 10" descr="8-3"/>
          <p:cNvPicPr/>
          <p:nvPr/>
        </p:nvPicPr>
        <p:blipFill>
          <a:blip r:embed="rId2"/>
          <a:stretch/>
        </p:blipFill>
        <p:spPr>
          <a:xfrm>
            <a:off x="4786200" y="3857760"/>
            <a:ext cx="1643040" cy="24289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9" descr="8-1"/>
          <p:cNvPicPr/>
          <p:nvPr/>
        </p:nvPicPr>
        <p:blipFill>
          <a:blip r:embed="rId3"/>
          <a:stretch/>
        </p:blipFill>
        <p:spPr>
          <a:xfrm>
            <a:off x="4000680" y="1428840"/>
            <a:ext cx="2643120" cy="20779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0" descr="9-1"/>
          <p:cNvPicPr/>
          <p:nvPr/>
        </p:nvPicPr>
        <p:blipFill>
          <a:blip r:embed="rId4"/>
          <a:stretch/>
        </p:blipFill>
        <p:spPr>
          <a:xfrm>
            <a:off x="6786720" y="2357280"/>
            <a:ext cx="2095200" cy="2186280"/>
          </a:xfrm>
          <a:prstGeom prst="rect">
            <a:avLst/>
          </a:prstGeom>
          <a:ln w="0">
            <a:noFill/>
          </a:ln>
        </p:spPr>
      </p:pic>
      <p:sp>
        <p:nvSpPr>
          <p:cNvPr id="347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6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9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5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1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10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6" descr="173"/>
          <p:cNvPicPr/>
          <p:nvPr/>
        </p:nvPicPr>
        <p:blipFill>
          <a:blip r:embed="rId1"/>
          <a:stretch/>
        </p:blipFill>
        <p:spPr>
          <a:xfrm>
            <a:off x="0" y="1357200"/>
            <a:ext cx="9144000" cy="550080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Музыкотерапия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56840" y="1599840"/>
            <a:ext cx="361476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3763"/>
                </a:solidFill>
                <a:latin typeface="Constantia"/>
              </a:rPr>
              <a:t>	</a:t>
            </a:r>
            <a:r>
              <a:rPr b="1" lang="ru-RU" sz="1800" spc="-1" strike="noStrike">
                <a:solidFill>
                  <a:srgbClr val="083763"/>
                </a:solidFill>
                <a:latin typeface="Constantia"/>
              </a:rPr>
              <a:t>Рецептивная музыкотерапия предполагает процесс восприятия музыки с терапевтической целью. Участникам группы предлагают прослушать специально подобранные музыкальные произведения, а затем обсудить их собственные переживания, воспоминания, мысли, ассоциации, фантазии, возникающие у них в ходе прослушивания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1" name="Picture 9" descr="Listen"/>
          <p:cNvPicPr/>
          <p:nvPr/>
        </p:nvPicPr>
        <p:blipFill>
          <a:blip r:embed="rId2"/>
          <a:stretch/>
        </p:blipFill>
        <p:spPr>
          <a:xfrm>
            <a:off x="4068720" y="1643040"/>
            <a:ext cx="1720800" cy="11430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8" descr="1020061785141"/>
          <p:cNvPicPr/>
          <p:nvPr/>
        </p:nvPicPr>
        <p:blipFill>
          <a:blip r:embed="rId3"/>
          <a:stretch/>
        </p:blipFill>
        <p:spPr>
          <a:xfrm>
            <a:off x="6572160" y="4929120"/>
            <a:ext cx="1857600" cy="13334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4" descr=" Духовное значение звука"/>
          <p:cNvPicPr/>
          <p:nvPr/>
        </p:nvPicPr>
        <p:blipFill>
          <a:blip r:embed="rId4"/>
          <a:stretch/>
        </p:blipFill>
        <p:spPr>
          <a:xfrm>
            <a:off x="5072040" y="2857680"/>
            <a:ext cx="2095560" cy="2009520"/>
          </a:xfrm>
          <a:prstGeom prst="rect">
            <a:avLst/>
          </a:prstGeom>
          <a:ln w="0">
            <a:noFill/>
          </a:ln>
        </p:spPr>
      </p:pic>
      <p:sp>
        <p:nvSpPr>
          <p:cNvPr id="354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08:53:49Z</dcterms:created>
  <dc:creator>Домашний</dc:creator>
  <dc:description/>
  <dc:language>en-US</dc:language>
  <cp:lastModifiedBy>LEGION</cp:lastModifiedBy>
  <dcterms:modified xsi:type="dcterms:W3CDTF">2015-04-02T07:00:02Z</dcterms:modified>
  <cp:revision>55</cp:revision>
  <dc:subject/>
  <dc:title>Введение Общее представление о звуке. Слуховой путь человека Применение свойств музыки в древние времена музыкотерапия: что это? Для чего используется? Направления? Формы? Музыка Моцарта Музыка - это оружие! влияние музыки на развитие плода Отрицательное значение музыки Заключение Приложение 1   Интересные факты</dc:title>
</cp:coreProperties>
</file>